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C7E-1847-4AB7-A89B-B2ECA9D7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D43-8EDF-4D1A-A586-4618665E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240-6C2B-4EF0-9C42-93137A68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378-F5F1-42F4-85B0-B94D1C91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700-EE15-41BF-B248-BA18090C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887-7894-41AC-9B8A-DC4029E7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7FB-E6B0-4F3C-8A26-E7D0B981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1164-7930-4941-8C4C-49CE16B9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264-2468-4D04-82E9-469A29AF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1C6-4D90-4DAA-B9E1-F56F308E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C96-B042-4615-91D7-6B85EDBC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62A-966A-4105-A201-0AB2E3B5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4F43-2A41-45C2-B7BB-2B517F22C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LND_80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86400" y="304920"/>
            <a:ext cx="342900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كل مَرَّة لمّا مْنِتْلاقى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مْنِتمنّى تِسْكُن عِنّ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بالقَلِبْ لَفْتيِ حِرَّاقة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 تَضّلَّك دايماً مع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نتَ الحُبّ المالو حْدود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بيمَلّي هالأرض وعود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حُبّك بالقَلِبْ موجود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هوني السَّما بْتُغمُرْ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OLND_80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86400" y="304920"/>
            <a:ext cx="342900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إنت الـ خبَّرِتْ إنَّك            لمّا تْنَيْن بجَمْعِتْهُم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بيتلاقو يغنّو إسمَك            بتجي وبتقعد معهم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خلِّينا معك عاطول           لـَ لَحْظَة ما تتركنـا 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خلِّينا معك عاطول           لـَ لَحْظَة ما تتركنـا حُبّك بالقَلِبْ موجود          هوني السَّما بْتُغمُرْ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OLND_80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86400" y="304920"/>
            <a:ext cx="342900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كل مَرَّة لمّا مْنِتْلاقى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مْنِتمنّى تِسْكُن عِنّ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بالقَلِبْ لَفْتيِ حِرَّاقة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 تَضّلَّك دايماً مع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نتَ الحُبّ المالو حْدود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بيمَلّي هالأرض وعود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حُبّك بالقَلِبْ موجود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هوني السَّما بْتُغمُرْ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OLND_80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86400" y="304920"/>
            <a:ext cx="342900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إنتَ الـ قِلْتِلنا تنضلّ         بالمحَبّة مرتبطين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حتّى النور علينا يْهِلّ       وحَولَكْ نِبقى مِتِّحدين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بالوِحدِة بدَّك نعيش         وغير الـ بدَّكْ ما بَدْنا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بالوِحدِة بدَّك نعيش         وغير الـ بدَّكْ ما بَدْ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حُبَّك بالقَلِبْ موجود        هوني السَّما بْتُغمُرْ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OLND_80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86400" y="304920"/>
            <a:ext cx="342900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كل مَرَّة لمّا مْنِتْلاقى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مْنِتمنّى تِسْكُن عِنّ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بالقَلِبْ لَفْتيِ حِرَّاقة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 تَضّلَّك دايماً مع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نتَ الحُبّ المالو حْدود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بيمَلّي هالأرض وعود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حُبّك بالقَلِبْ موجود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هوني السَّما بْتُغمُرْ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3:59:57Z</dcterms:modified>
  <cp:revision>1</cp:revision>
  <dc:subject/>
  <dc:title>PowerPoint Presentation</dc:title>
</cp:coreProperties>
</file>